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6711-9177-4148-B89D-A6152A17C46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BD6A-EB34-4C9A-942D-36FAB5A6E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985680" y="741240"/>
            <a:ext cx="4886640" cy="3665520"/>
          </a:xfrm>
          <a:prstGeom prst="rect">
            <a:avLst/>
          </a:prstGeom>
          <a:ln w="0">
            <a:noFill/>
          </a:ln>
        </p:spPr>
      </p:sp>
      <p:sp>
        <p:nvSpPr>
          <p:cNvPr id="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26FD-A5C9-40E6-A883-FE0DFCFA0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985680" y="741240"/>
            <a:ext cx="4886640" cy="3665520"/>
          </a:xfrm>
          <a:prstGeom prst="rect">
            <a:avLst/>
          </a:prstGeom>
          <a:ln w="0">
            <a:noFill/>
          </a:ln>
        </p:spPr>
      </p:sp>
      <p:sp>
        <p:nvSpPr>
          <p:cNvPr id="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6C52-CB90-4B5D-BB8D-31A2ABF2F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985680" y="741240"/>
            <a:ext cx="4886640" cy="3665520"/>
          </a:xfrm>
          <a:prstGeom prst="rect">
            <a:avLst/>
          </a:prstGeom>
          <a:ln w="0">
            <a:noFill/>
          </a:ln>
        </p:spPr>
      </p:sp>
      <p:sp>
        <p:nvSpPr>
          <p:cNvPr id="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8B61-5FE0-40FA-95FA-205BCCE0A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985680" y="741240"/>
            <a:ext cx="4886640" cy="3665520"/>
          </a:xfrm>
          <a:prstGeom prst="rect">
            <a:avLst/>
          </a:prstGeom>
          <a:ln w="0">
            <a:noFill/>
          </a:ln>
        </p:spPr>
      </p:sp>
      <p:sp>
        <p:nvSpPr>
          <p:cNvPr id="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0134-DC97-4DD3-801C-6328599D3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985680" y="741240"/>
            <a:ext cx="4886640" cy="3665520"/>
          </a:xfrm>
          <a:prstGeom prst="rect">
            <a:avLst/>
          </a:prstGeom>
          <a:ln w="0">
            <a:noFill/>
          </a:ln>
        </p:spPr>
      </p:sp>
      <p:sp>
        <p:nvSpPr>
          <p:cNvPr id="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15C7-C911-4E94-ABF6-2B9927D5F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985680" y="741240"/>
            <a:ext cx="4886640" cy="3665520"/>
          </a:xfrm>
          <a:prstGeom prst="rect">
            <a:avLst/>
          </a:prstGeom>
          <a:ln w="0">
            <a:noFill/>
          </a:ln>
        </p:spPr>
      </p:sp>
      <p:sp>
        <p:nvSpPr>
          <p:cNvPr id="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6CCB-1AC5-4A49-B358-E9BD9B66A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985680" y="741240"/>
            <a:ext cx="4886640" cy="3665520"/>
          </a:xfrm>
          <a:prstGeom prst="rect">
            <a:avLst/>
          </a:prstGeom>
          <a:ln w="0">
            <a:noFill/>
          </a:ln>
        </p:spPr>
      </p:sp>
      <p:sp>
        <p:nvSpPr>
          <p:cNvPr id="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C928-2FB2-437C-889E-6222CF700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985680" y="741240"/>
            <a:ext cx="4886640" cy="3665520"/>
          </a:xfrm>
          <a:prstGeom prst="rect">
            <a:avLst/>
          </a:prstGeom>
          <a:ln w="0">
            <a:noFill/>
          </a:ln>
        </p:spPr>
      </p:sp>
      <p:sp>
        <p:nvSpPr>
          <p:cNvPr id="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6E6D-C10C-48F2-8EA4-B1F41E04A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985680" y="741240"/>
            <a:ext cx="4886640" cy="3665520"/>
          </a:xfrm>
          <a:prstGeom prst="rect">
            <a:avLst/>
          </a:prstGeom>
          <a:ln w="0">
            <a:noFill/>
          </a:ln>
        </p:spPr>
      </p:sp>
      <p:sp>
        <p:nvSpPr>
          <p:cNvPr id="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3939-3F5A-4661-BF23-E32B2485F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985680" y="741240"/>
            <a:ext cx="4886640" cy="3665520"/>
          </a:xfrm>
          <a:prstGeom prst="rect">
            <a:avLst/>
          </a:prstGeom>
          <a:ln w="0">
            <a:noFill/>
          </a:ln>
        </p:spPr>
      </p:sp>
      <p:sp>
        <p:nvSpPr>
          <p:cNvPr id="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233E-8DF3-4AE5-8D05-277462E21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985680" y="741240"/>
            <a:ext cx="4886640" cy="3665520"/>
          </a:xfrm>
          <a:prstGeom prst="rect">
            <a:avLst/>
          </a:prstGeom>
          <a:ln w="0">
            <a:noFill/>
          </a:ln>
        </p:spPr>
      </p:sp>
      <p:sp>
        <p:nvSpPr>
          <p:cNvPr id="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A91C-2CC1-4E2D-A8B7-C324FDB04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985680" y="741240"/>
            <a:ext cx="4886640" cy="3665520"/>
          </a:xfrm>
          <a:prstGeom prst="rect">
            <a:avLst/>
          </a:prstGeom>
          <a:ln w="0">
            <a:noFill/>
          </a:ln>
        </p:spPr>
      </p:sp>
      <p:sp>
        <p:nvSpPr>
          <p:cNvPr id="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D24E-ADE6-4501-9874-90047F033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985680" y="741240"/>
            <a:ext cx="4886640" cy="3665520"/>
          </a:xfrm>
          <a:prstGeom prst="rect">
            <a:avLst/>
          </a:prstGeom>
          <a:ln w="0">
            <a:noFill/>
          </a:ln>
        </p:spPr>
      </p:sp>
      <p:sp>
        <p:nvSpPr>
          <p:cNvPr id="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B0E0-E821-496E-907B-7C0602D6A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985680" y="741240"/>
            <a:ext cx="4886640" cy="3665520"/>
          </a:xfrm>
          <a:prstGeom prst="rect">
            <a:avLst/>
          </a:prstGeom>
          <a:ln w="0">
            <a:noFill/>
          </a:ln>
        </p:spPr>
      </p:sp>
      <p:sp>
        <p:nvSpPr>
          <p:cNvPr id="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F9F6-D62D-4843-B95F-7FA343324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985680" y="741240"/>
            <a:ext cx="4886640" cy="3665520"/>
          </a:xfrm>
          <a:prstGeom prst="rect">
            <a:avLst/>
          </a:prstGeom>
          <a:ln w="0">
            <a:noFill/>
          </a:ln>
        </p:spPr>
      </p:sp>
      <p:sp>
        <p:nvSpPr>
          <p:cNvPr id="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06FD-F763-4B37-B4B8-0E2DE5AFB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985680" y="741240"/>
            <a:ext cx="4886640" cy="3665520"/>
          </a:xfrm>
          <a:prstGeom prst="rect">
            <a:avLst/>
          </a:prstGeom>
          <a:ln w="0">
            <a:noFill/>
          </a:ln>
        </p:spPr>
      </p:sp>
      <p:sp>
        <p:nvSpPr>
          <p:cNvPr id="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BC39-BB9B-4C4A-9DAA-A413A8E6B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985680" y="741240"/>
            <a:ext cx="4886640" cy="3665520"/>
          </a:xfrm>
          <a:prstGeom prst="rect">
            <a:avLst/>
          </a:prstGeom>
          <a:ln w="0">
            <a:noFill/>
          </a:ln>
        </p:spPr>
      </p:sp>
      <p:sp>
        <p:nvSpPr>
          <p:cNvPr id="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0483-A614-4354-B089-00D3E5939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985680" y="741240"/>
            <a:ext cx="4886640" cy="3665520"/>
          </a:xfrm>
          <a:prstGeom prst="rect">
            <a:avLst/>
          </a:prstGeom>
          <a:ln w="0">
            <a:noFill/>
          </a:ln>
        </p:spPr>
      </p:sp>
      <p:sp>
        <p:nvSpPr>
          <p:cNvPr id="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1657-CA0E-425D-858D-CFF863553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985680" y="741240"/>
            <a:ext cx="4886640" cy="3665520"/>
          </a:xfrm>
          <a:prstGeom prst="rect">
            <a:avLst/>
          </a:prstGeom>
          <a:ln w="0">
            <a:noFill/>
          </a:ln>
        </p:spPr>
      </p:sp>
      <p:sp>
        <p:nvSpPr>
          <p:cNvPr id="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268F-3B4D-40AA-883F-E742273FE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985680" y="741240"/>
            <a:ext cx="4886640" cy="3665520"/>
          </a:xfrm>
          <a:prstGeom prst="rect">
            <a:avLst/>
          </a:prstGeom>
          <a:ln w="0">
            <a:noFill/>
          </a:ln>
        </p:spPr>
      </p:sp>
      <p:sp>
        <p:nvSpPr>
          <p:cNvPr id="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11A6-8CDC-4723-A276-7454306FD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985680" y="741240"/>
            <a:ext cx="4886640" cy="3665520"/>
          </a:xfrm>
          <a:prstGeom prst="rect">
            <a:avLst/>
          </a:prstGeom>
          <a:ln w="0">
            <a:noFill/>
          </a:ln>
        </p:spPr>
      </p:sp>
      <p:sp>
        <p:nvSpPr>
          <p:cNvPr id="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F1E2-991D-4143-A306-C677C6877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985680" y="741240"/>
            <a:ext cx="4886640" cy="3665520"/>
          </a:xfrm>
          <a:prstGeom prst="rect">
            <a:avLst/>
          </a:prstGeom>
          <a:ln w="0">
            <a:noFill/>
          </a:ln>
        </p:spPr>
      </p:sp>
      <p:sp>
        <p:nvSpPr>
          <p:cNvPr id="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3CE8-6441-45AB-B3A1-D3C7971B1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985680" y="741240"/>
            <a:ext cx="4886640" cy="3665520"/>
          </a:xfrm>
          <a:prstGeom prst="rect">
            <a:avLst/>
          </a:prstGeom>
          <a:ln w="0">
            <a:noFill/>
          </a:ln>
        </p:spPr>
      </p:sp>
      <p:sp>
        <p:nvSpPr>
          <p:cNvPr id="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4E99-6B74-4461-9925-423A1297C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985680" y="741240"/>
            <a:ext cx="4886640" cy="3665520"/>
          </a:xfrm>
          <a:prstGeom prst="rect">
            <a:avLst/>
          </a:prstGeom>
          <a:ln w="0">
            <a:noFill/>
          </a:ln>
        </p:spPr>
      </p:sp>
      <p:sp>
        <p:nvSpPr>
          <p:cNvPr id="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4F93-353E-4C00-9F0C-874E0A93C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985680" y="741240"/>
            <a:ext cx="4886640" cy="3665520"/>
          </a:xfrm>
          <a:prstGeom prst="rect">
            <a:avLst/>
          </a:prstGeom>
          <a:ln w="0">
            <a:noFill/>
          </a:ln>
        </p:spPr>
      </p:sp>
      <p:sp>
        <p:nvSpPr>
          <p:cNvPr id="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74AE-3002-4C96-ABA6-7A929E6A9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985680" y="741240"/>
            <a:ext cx="4886640" cy="3665520"/>
          </a:xfrm>
          <a:prstGeom prst="rect">
            <a:avLst/>
          </a:prstGeom>
          <a:ln w="0">
            <a:noFill/>
          </a:ln>
        </p:spPr>
      </p:sp>
      <p:sp>
        <p:nvSpPr>
          <p:cNvPr id="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28DA-5F74-424C-AB37-00238A107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985680" y="741240"/>
            <a:ext cx="4886640" cy="3665520"/>
          </a:xfrm>
          <a:prstGeom prst="rect">
            <a:avLst/>
          </a:prstGeom>
          <a:ln w="0">
            <a:noFill/>
          </a:ln>
        </p:spPr>
      </p:sp>
      <p:sp>
        <p:nvSpPr>
          <p:cNvPr id="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02FB-011C-4E03-8134-C93C79D8E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985680" y="741240"/>
            <a:ext cx="4886640" cy="3665520"/>
          </a:xfrm>
          <a:prstGeom prst="rect">
            <a:avLst/>
          </a:prstGeom>
          <a:ln w="0">
            <a:noFill/>
          </a:ln>
        </p:spPr>
      </p:sp>
      <p:sp>
        <p:nvSpPr>
          <p:cNvPr id="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EB99-B881-4A44-8B41-7F25A8BB2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985680" y="741240"/>
            <a:ext cx="4886640" cy="3665520"/>
          </a:xfrm>
          <a:prstGeom prst="rect">
            <a:avLst/>
          </a:prstGeom>
          <a:ln w="0">
            <a:noFill/>
          </a:ln>
        </p:spPr>
      </p:sp>
      <p:sp>
        <p:nvSpPr>
          <p:cNvPr id="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0793-FF2D-4B69-A687-E5335DBA1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985680" y="741240"/>
            <a:ext cx="4886640" cy="3665520"/>
          </a:xfrm>
          <a:prstGeom prst="rect">
            <a:avLst/>
          </a:prstGeom>
          <a:ln w="0">
            <a:noFill/>
          </a:ln>
        </p:spPr>
      </p:sp>
      <p:sp>
        <p:nvSpPr>
          <p:cNvPr id="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3199-32FE-4980-9981-A29609972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985680" y="741240"/>
            <a:ext cx="4886640" cy="3665520"/>
          </a:xfrm>
          <a:prstGeom prst="rect">
            <a:avLst/>
          </a:prstGeom>
          <a:ln w="0">
            <a:noFill/>
          </a:ln>
        </p:spPr>
      </p:sp>
      <p:sp>
        <p:nvSpPr>
          <p:cNvPr id="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77FA-AA42-4088-B227-AFB799F22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985680" y="741240"/>
            <a:ext cx="4886640" cy="3665520"/>
          </a:xfrm>
          <a:prstGeom prst="rect">
            <a:avLst/>
          </a:prstGeom>
          <a:ln w="0">
            <a:noFill/>
          </a:ln>
        </p:spPr>
      </p:sp>
      <p:sp>
        <p:nvSpPr>
          <p:cNvPr id="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96B9-BD18-44A2-BE7C-97F4F3CBB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985680" y="741240"/>
            <a:ext cx="4886640" cy="3665520"/>
          </a:xfrm>
          <a:prstGeom prst="rect">
            <a:avLst/>
          </a:prstGeom>
          <a:ln w="0">
            <a:noFill/>
          </a:ln>
        </p:spPr>
      </p:sp>
      <p:sp>
        <p:nvSpPr>
          <p:cNvPr id="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C06D-027D-4BFA-8B5D-1AEC3E5D0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985680" y="741240"/>
            <a:ext cx="4886640" cy="3665520"/>
          </a:xfrm>
          <a:prstGeom prst="rect">
            <a:avLst/>
          </a:prstGeom>
          <a:ln w="0">
            <a:noFill/>
          </a:ln>
        </p:spPr>
      </p:sp>
      <p:sp>
        <p:nvSpPr>
          <p:cNvPr id="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D7EB-7048-4D81-89BE-528C1FED4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985680" y="741240"/>
            <a:ext cx="4886640" cy="3665520"/>
          </a:xfrm>
          <a:prstGeom prst="rect">
            <a:avLst/>
          </a:prstGeom>
          <a:ln w="0">
            <a:noFill/>
          </a:ln>
        </p:spPr>
      </p:sp>
      <p:sp>
        <p:nvSpPr>
          <p:cNvPr id="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8863D-E205-474B-8149-6B2F33A44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87AC7-69F5-4B3A-A44D-4AA5988B8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147AD1-7434-4BD7-96FF-B3F0D02954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0FBC97-5DC5-480E-A91A-2BAB78CB4B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5F792E-412E-4C05-9A94-F51128733F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4CBE8A-AC2D-4F4D-AABB-42D203947D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A9E224-3A51-4EDF-9879-390C75EAF4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288F30-2068-450C-BDA0-D365FC1915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55FA2A-E705-4C23-BB64-FEA3CDF4BB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746A9B-8D4E-4AB3-84DC-D6FE0EAB3B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8DF8A8-9CC9-4332-A894-B15944656C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BD2891-FCDB-4B34-8481-49D6DB1F3C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7F8F3-A53E-4813-AFDF-9CF6D23D8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2A2E2C-DB08-47B9-83F8-2F626487EC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3C2B5E-B016-44A8-BC16-D20663C607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BE4B1F-88B2-4437-9355-7C2DEABF2A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8621CF-BA2F-4727-86A4-9151C3E831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6C3D75-80EF-4486-B699-59C346CA52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E0875F-92C1-4A73-A7B8-54E3DB2840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4FA0D9-1A7C-4EB8-91F9-B6F5F9A1B0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BAE514-2951-47CA-93FB-C1375EDE6D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2FF307-7F67-4213-83AA-47130FEAF1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9A3E7D-2A11-40A4-8686-3C5BD1CF50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33EDC-1B5A-4FAE-A567-DF47C78A3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5E14F7-E42D-4410-967E-0A63385F80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9D0689-FF1E-4D07-A433-B26E0EA1BD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CF117D-C2B2-4F3D-BECA-9F7AC31DA5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FCFE34-F3B8-40FC-A116-DFBDF4ECEC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B9259C-8EE4-4C8D-950E-E1333242E0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98EEBC-A443-4236-8540-0CD3645308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E9EF53-3E92-44BA-81F3-3E5F91BD0D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7FD6C4-222C-49F0-92AA-2F9DC9C4FD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FFD1B7-1CDA-448C-905B-FD3DEC051B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75FA7B-9D65-4CC7-BB60-658ACA3874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1845B-88F7-47C2-9125-1CA59FE2A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30CED8-3511-4D50-BB90-CA92E42F87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D79E29-3FF6-4F48-8B65-E333963E6C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458010-504F-4D2E-9C35-09AA963590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603A74-AD47-4BC5-A55D-87D3B6AAC2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19158E-B2BE-494C-BD91-B05D1FFF71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CC31A6-414F-44D3-AFCB-034D95A42F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39237A-B17D-407C-94DD-D158F1FE3A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02549C-040F-4BC5-B062-316D9631E4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216B27-F33F-45EE-8C9E-B42D7A12A7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4D71D2-1FE4-40CB-929C-7578F9F688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220E8-DEBE-4DDC-9FBD-FEDF02EF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C515A5-934C-4AA2-80A7-0750698FBC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78EC94-1103-401D-BC74-D8EA1CE03B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F78AF6-DAC6-48F7-901F-C33CAB451F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0F0C46-E073-4219-A68D-DE7B679242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9E6014-25D0-4EE4-BF02-8E98FCFA40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28DDE67-5B01-4A06-86E5-93DE39D0FACA}"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7579894-E8F8-4788-9781-D6C6DDD3A5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077E8B1-36A0-4421-9D5A-D457D4164C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9E79E1D-17CA-4502-84B2-7551907D2E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76F3A38C-B725-4B17-B2C3-9FF67681C0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9D47E-3E6D-4D3C-8F7A-DD17B1161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EC3317AD-B120-4661-A8BE-EB36421FC3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F882C11-1529-453A-968C-644106766D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5DC6955-9C1B-4487-9563-E5361A2006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3041DF7-4DEA-4A81-B2DE-672A7A7DAB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05BD4C0-C69D-4E3E-BDE6-8EB1D3225C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E405764B-DB79-463D-A2BA-209DDEF119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4E871D2-D8EE-42F4-9D2F-B59780561EA9}"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3C49D-AA52-40DB-B43D-0C9FB1058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0C3DF-DE29-4274-9F1A-4FF2E2197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CF641-9084-4D91-90CC-01DBBF466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5FC9A-22E9-496A-A67D-0E6A53E7D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81C3B-5DB0-46DA-A3E1-D6E7501FC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D551A-7B11-4848-973D-8132F2B1C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3EF53-9B58-4A85-8BC1-4F7FFC1F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CF584-9D04-4253-9AF6-CCDD75794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73EBF-9ED2-4AD5-BB0E-7B72D8D6B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E0699-9F42-45D6-AFFC-60C293B85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1E1B2E-E8BE-481E-AACA-77213442BA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E59E96-F949-4067-B5D1-59F452112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C5488-20ED-469B-81C3-E9FC6FC84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148C6-66ED-473E-9577-F6E700733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042A2-3358-4F08-88AC-20E628BBB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196D6-085B-4C1E-9DAE-2C2CFB9BF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5ADC63-0805-482D-972C-624306E39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16325-3B17-4542-B351-40C3AD2B3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94F3C-6EA0-456E-A3C9-4D0D821DC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D5DD1-95ED-4C43-81DB-266E4C04A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93C24-6DDE-4A8F-8271-09745F9FF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6E1121-6058-4FDB-AA5B-D4B641B7F7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D8E4F0-A9B2-482F-99A5-AF129BF1F9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FEBFAB-FBF3-49EC-BC9E-7C7D72E755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903A8-2D76-4EC6-A308-85505C373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B6818-D87C-48EA-AE11-BBAD4CF1C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4AA85-7DB6-484C-A5D1-B28423CAF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B4259-373A-478F-A4A6-4A3AE2F4E5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BB53F-E7C6-4C1C-BE76-272A8E79C6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52E92-30B6-442C-9A44-E89106322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4EF1E-AA4C-4868-973D-D07DA6D39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547AE-710F-4C2B-979B-3A458F5C4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3EAD4-7901-49A8-BFA7-ABC8137BE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DF951-AFA5-4B30-A43E-9DF1C97F48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ACC4CE-A778-4021-BD2C-CB8F45F9FD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A4FDB1-45ED-47B3-89B4-DE3D588A5C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66C830-711D-4874-941B-32038E56D0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EB7AF-B0EC-46F3-A729-E401B560C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432162-C2BB-4BE2-A63A-D39782A060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D7CEF-3CEE-4C09-B64C-5A3166B62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39EC3C-4124-4058-9DA2-CE63471E86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17E2C-00E4-467A-A801-650A8D5C2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ADF3D-01B2-4468-8D3F-0E744F736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382F2-8957-4411-93A1-C7C698FB2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CAA56-49F2-482B-8DE1-427D57819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A83E8-F3E8-4801-AC9F-6BA50387F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E28CC3-569B-44B3-9950-95B9BC4BAC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675ACD-EAC0-4D98-8852-8AC85D5604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0B0E-E78F-4DE8-B41F-34519C159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0C49C9-7E4B-4671-9E14-822996170C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0E7B2B-AD52-44EF-8AE6-B857DB15FF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2FDB12-35E5-4F15-946C-452699E5C1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D61A6-D0BB-45EE-A20A-7B17C7F24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9F712-F0E8-4186-A8DF-41F7630FA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CB3F8F-7667-484D-9CFC-A5B9CC258A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F86F9-2DF3-4B66-BC1B-AA727F4460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791BD-B62A-4C17-BC32-73AAA5940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B162D2-A662-44BE-AA09-D3E5278C0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C2806A-E89E-473D-81AD-3338C850D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87A4-DE2D-483A-AB24-9215C5E73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7D066-5DAD-4BCD-B5BF-F579AC61C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819CDE-C181-421B-AC94-DAE9DEB7EC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751BE5-24CF-4F18-9C3F-2624EF4B64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57BEB5-4C71-4DA3-9257-7595AED5B1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52C853-CD43-4FA7-B20E-55704D78DC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9EC0E2-340B-4924-A124-D6AA1BDE78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A56DA7-98FB-4EBF-9845-C032C5086B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68208F-602F-4F64-97E0-4772B3FBF2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DFB8E-E28E-468D-865B-F9C3103353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D694FA-E38B-46D0-9E15-83855516EA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1EA41-AD47-46D8-B8FF-2754CA7DE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ECACE-1CF7-4669-87EB-0CF144139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43E1D-DF55-4A2E-8C65-AC8AEE5DF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7AF3C8-180D-4A2A-90BA-8F6690A4B2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A1022D-C63C-427C-9028-F50B8C27B1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76DB73-8FE7-43E1-B14C-4524F20946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01A576-D5F3-4B76-83F4-217CDB844F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909079-4E03-4CFE-B312-BD49F1DB31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6A2E1E-46BE-43FC-ADB1-08C51BE3DB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2A2EE8-DE3F-4A6A-B7ED-D328903BB0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E8CBF4-9CE8-43ED-8B0F-39CA37B2A3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693FF-1381-4134-B568-1331E3B9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89A107-C563-497D-A8CE-B106F94CC1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A96B5-5D67-47C9-8FCD-CB1632341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9C012-8B91-44B8-A954-0435FC7BB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97122E-75F3-4FCA-8CD1-296804020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7F4563-9D51-4569-8BBC-4B0CB61E18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B8D155-8EC7-4C6D-894F-91B9BD6D8F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A2F8DA-B0CB-47CC-993F-3BB511F668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9FD2BD-7503-4DAE-AFC6-0C7964E91F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966119-F42F-4035-84D0-EC245CB7FA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177039-EF3D-492E-8FCD-8D5FB74022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4582-2192-4F2C-B099-37E5C44D59D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B469-8B6D-4160-B639-1B5C3560BC1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27F2-09C9-4D02-ABBF-1FC9C744B8B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8CE4-43AA-4072-AB75-B5B1CCBEBBA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DB65-C47D-46D6-9CE7-55C7A2F5A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58B7-22EE-4C5B-929A-5BB267B395B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658A-F9E5-489B-9B48-B5B1C3FD406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8E4A-9307-4D0E-A842-D32BBD8AB74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668D-D801-4F79-85B5-C1C498D5205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8E5F-C1E5-4021-BDF0-1BD39BAE1CC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E7A9-A83D-42AA-AC0D-FC7762956F6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13F8-AA8A-492A-9713-BFEF86B6128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3430-D1C4-4552-ACC1-33D0DF3F1CD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1463760"/>
            <a:ext cx="7596360" cy="28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
        <p:nvSpPr>
          <p:cNvPr id="556" name="10 - Ορθογώνιο"/>
          <p:cNvSpPr/>
          <p:nvPr/>
        </p:nvSpPr>
        <p:spPr>
          <a:xfrm>
            <a:off x="2286000" y="5000760"/>
            <a:ext cx="59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Arial"/>
                <a:ea typeface="Arial"/>
              </a:rPr>
              <a:t>ΕΙΣΗΓΗΤΗΣ: Παναγιώτης Ν. Μαντάς</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39280" y="1392120"/>
            <a:ext cx="860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23640" y="1052280"/>
            <a:ext cx="8135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000000"/>
              </a:solidFill>
              <a:latin typeface="Times New Roman"/>
            </a:endParaRPr>
          </a:p>
        </p:txBody>
      </p:sp>
      <p:grpSp>
        <p:nvGrpSpPr>
          <p:cNvPr id="558" name="Ομάδα 1"/>
          <p:cNvGrpSpPr/>
          <p:nvPr/>
        </p:nvGrpSpPr>
        <p:grpSpPr>
          <a:xfrm>
            <a:off x="0" y="115920"/>
            <a:ext cx="9144000" cy="6551640"/>
            <a:chOff x="0" y="115920"/>
            <a:chExt cx="9144000" cy="6551640"/>
          </a:xfrm>
        </p:grpSpPr>
        <p:grpSp>
          <p:nvGrpSpPr>
            <p:cNvPr id="559" name="Ομάδα 1"/>
            <p:cNvGrpSpPr/>
            <p:nvPr/>
          </p:nvGrpSpPr>
          <p:grpSpPr>
            <a:xfrm>
              <a:off x="0" y="115920"/>
              <a:ext cx="9144000" cy="6551640"/>
              <a:chOff x="0" y="115920"/>
              <a:chExt cx="9144000" cy="6551640"/>
            </a:xfrm>
          </p:grpSpPr>
          <p:sp>
            <p:nvSpPr>
              <p:cNvPr id="5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5"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 ΤΩΝ ΜΑΘΗΤΩΝ ΜΕ ΕΕΑ/ΑΝΑΠΗΡΙΕΣ </a:t>
            </a:r>
            <a:br>
              <a:rPr sz="3200"/>
            </a:br>
            <a:br>
              <a:rPr sz="3200"/>
            </a:br>
            <a:br>
              <a:rPr sz="3200"/>
            </a:br>
            <a:r>
              <a:rPr b="1" lang="el-GR" sz="2000" spc="-1" strike="noStrike">
                <a:solidFill>
                  <a:srgbClr val="000099"/>
                </a:solidFill>
                <a:latin typeface="Arial"/>
                <a:ea typeface="Arial"/>
              </a:rPr>
              <a:t>ΕΙΣΗΓΗΤΗΣ: Παναγιώτης Ν. Μαντάς</a:t>
            </a:r>
            <a:br>
              <a:rPr sz="3200"/>
            </a:br>
            <a:endParaRPr b="0" lang="en-US" sz="20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64" name="Picture 9" descr=""/>
          <p:cNvPicPr/>
          <p:nvPr/>
        </p:nvPicPr>
        <p:blipFill>
          <a:blip r:embed="rId1"/>
          <a:stretch/>
        </p:blipFill>
        <p:spPr>
          <a:xfrm>
            <a:off x="0" y="0"/>
            <a:ext cx="9144000" cy="1368360"/>
          </a:xfrm>
          <a:prstGeom prst="rect">
            <a:avLst/>
          </a:prstGeom>
          <a:ln w="0">
            <a:noFill/>
          </a:ln>
        </p:spPr>
      </p:pic>
      <p:pic>
        <p:nvPicPr>
          <p:cNvPr id="865" name="Picture 10" descr=""/>
          <p:cNvPicPr/>
          <p:nvPr/>
        </p:nvPicPr>
        <p:blipFill>
          <a:blip r:embed="rId2"/>
          <a:stretch/>
        </p:blipFill>
        <p:spPr>
          <a:xfrm>
            <a:off x="1258920" y="2060640"/>
            <a:ext cx="1297080" cy="1528560"/>
          </a:xfrm>
          <a:prstGeom prst="rect">
            <a:avLst/>
          </a:prstGeom>
          <a:ln w="0">
            <a:noFill/>
          </a:ln>
        </p:spPr>
      </p:pic>
      <p:pic>
        <p:nvPicPr>
          <p:cNvPr id="866" name="12 - Εικόνα" descr=""/>
          <p:cNvPicPr/>
          <p:nvPr/>
        </p:nvPicPr>
        <p:blipFill>
          <a:blip r:embed="rId3"/>
          <a:stretch/>
        </p:blipFill>
        <p:spPr>
          <a:xfrm>
            <a:off x="6948360" y="1989000"/>
            <a:ext cx="1444680" cy="1573200"/>
          </a:xfrm>
          <a:prstGeom prst="rect">
            <a:avLst/>
          </a:prstGeom>
          <a:ln w="0">
            <a:noFill/>
          </a:ln>
        </p:spPr>
      </p:pic>
      <p:sp>
        <p:nvSpPr>
          <p:cNvPr id="867"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68"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000000"/>
              </a:solidFill>
              <a:latin typeface="Times New Roman"/>
            </a:endParaRPr>
          </a:p>
        </p:txBody>
      </p:sp>
      <p:grpSp>
        <p:nvGrpSpPr>
          <p:cNvPr id="567" name="Ομάδα 1"/>
          <p:cNvGrpSpPr/>
          <p:nvPr/>
        </p:nvGrpSpPr>
        <p:grpSpPr>
          <a:xfrm>
            <a:off x="0" y="115920"/>
            <a:ext cx="9144000" cy="6551640"/>
            <a:chOff x="0" y="115920"/>
            <a:chExt cx="9144000" cy="6551640"/>
          </a:xfrm>
        </p:grpSpPr>
        <p:grpSp>
          <p:nvGrpSpPr>
            <p:cNvPr id="568" name="Ομάδα 1"/>
            <p:cNvGrpSpPr/>
            <p:nvPr/>
          </p:nvGrpSpPr>
          <p:grpSpPr>
            <a:xfrm>
              <a:off x="0" y="115920"/>
              <a:ext cx="9144000" cy="6551640"/>
              <a:chOff x="0" y="115920"/>
              <a:chExt cx="9144000" cy="6551640"/>
            </a:xfrm>
          </p:grpSpPr>
          <p:sp>
            <p:nvSpPr>
              <p:cNvPr id="5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4"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81000"/>
            <a:ext cx="83534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000000"/>
              </a:solidFill>
              <a:latin typeface="Times New Roman"/>
            </a:endParaRPr>
          </a:p>
        </p:txBody>
      </p:sp>
      <p:grpSp>
        <p:nvGrpSpPr>
          <p:cNvPr id="576" name="Ομάδα 1"/>
          <p:cNvGrpSpPr/>
          <p:nvPr/>
        </p:nvGrpSpPr>
        <p:grpSpPr>
          <a:xfrm>
            <a:off x="0" y="115920"/>
            <a:ext cx="9144000" cy="6551640"/>
            <a:chOff x="0" y="115920"/>
            <a:chExt cx="9144000" cy="6551640"/>
          </a:xfrm>
        </p:grpSpPr>
        <p:grpSp>
          <p:nvGrpSpPr>
            <p:cNvPr id="577" name="Ομάδα 1"/>
            <p:cNvGrpSpPr/>
            <p:nvPr/>
          </p:nvGrpSpPr>
          <p:grpSpPr>
            <a:xfrm>
              <a:off x="0" y="115920"/>
              <a:ext cx="9144000" cy="6551640"/>
              <a:chOff x="0" y="115920"/>
              <a:chExt cx="9144000" cy="6551640"/>
            </a:xfrm>
          </p:grpSpPr>
          <p:sp>
            <p:nvSpPr>
              <p:cNvPr id="5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4:58Z</dcterms:modified>
  <cp:revision>153</cp:revision>
  <dc:subject/>
  <dc:title>Παρουσίαση του PowerPoint</dc:title>
</cp:coreProperties>
</file>